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B1D-675B-4D34-B6B7-7E218BF5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069-E538-48E9-B317-168E6347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75D-774E-4CE0-924A-97F03BFC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66F-ABF1-4D51-9A56-1748E8FE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33D2-8BAF-49D1-8514-97E73E81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0ADD-5479-47A7-88C5-6FB41793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CB08-14AE-4BDA-B774-7BD994E2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C8C7-74A2-4894-97AF-C168F8FA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493A-7A10-46FB-99B8-777285E1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5D12-66F8-4568-BD00-8D48D43B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2E75-196C-46BE-8471-76EB4BC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0C0-F901-43CD-8C99-BC94E6F8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DE96-90DF-4A84-B79C-460C1309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6990-88F6-4EA7-86D5-44F675E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72B-E2D8-4B92-9070-3F3119B2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CC89-F74E-4A3C-899D-C7A6D4A8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E149-EE46-4DA5-AB92-A7E93B5F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548-4F8F-4CD9-A264-6A53301C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E01-9777-47F9-A51B-0A6DF187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3F2-8D11-41F8-8D7E-1100B975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BBE-49AA-4E45-9904-E1E9AF20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220-119A-487D-9D51-3ACE8F65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54A-4FCC-4484-9EBA-CB30DED3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715-D97D-4EF7-B488-0DEEBBAF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530F-92DE-4C93-8804-9A8FB731F8B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5A7D-F552-44AC-B3EC-B325674D96C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ема:Синонимы и 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691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втор: Субботин Сергей Владимирови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еник 5 класса «Русской гимнази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ля чего нужны 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онтекстуальные синонимы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ля чего нужны 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ин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– это слова, которые имеют схожее лексическое значение, но пишутся и звучат по-разному (например, дом – здание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нужны, чтобы обогатить нашу речь, чтобы она была разнообразной и ярк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акже синонимы помогают нам избежать повторов, тавтологи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онтекстуальные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онтекстуальные синонимы – это слова, сближение которых по значению происходит лишь в условиях определенного контекста, причем за пределами этого контекста они не являются синонимами (например, «День был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августовский, знойный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омительн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скучный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»-А.П.Чехов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– это слова, которые имеют противоположные лексические значения (например, «большой – маленький; высоко – низко»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антонимы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, как и синонимы, нужны нам для того, чтобы наша речь была богатой, разнообразной, жив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помогают нам избежать повторов в реч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06T05:50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